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E93-61EA-4404-863D-868E6D19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F47-891A-4B7E-B750-E3246F9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0A3-11B9-4360-B6AC-74711DE4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453-BD12-4166-9C99-CC135FD6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151B-BB51-44AF-9D38-F3B38DE2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454-1A1B-4DFE-ACFC-53D1BA1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AD4-D780-4BA4-93B6-E350A836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85EB-EE07-4252-AF4C-7B9CA62D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8FC-E805-4923-9FD6-D9DC02A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D2B-89A6-406F-B1FA-D3C842C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7DAE-B21A-4586-9B16-A7EE228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952-BF2A-43D9-A370-56A1413D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B6D-F14B-43B4-A13A-C946184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9F0-C3E6-45CE-AFDE-875004C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65F6-6730-40F2-9078-FB23282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D82A-B909-446B-93B0-2E4A714F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0C1D-946D-4E06-838C-928365D3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EEE-38F7-4DC6-8418-B259958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587-6D8F-47A5-B547-BD71E67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080-DE14-436E-8C12-4530173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B04-6D56-411B-A709-B0887A28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F39-42BD-46C5-88C1-245BEE2D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63E-BFC6-41E8-BB94-0F4B4715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6FA-9625-4BD3-BDD9-6F89436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B5A-D81C-4F11-8B32-E49CA0F69D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4671-3D46-4D7D-8E4A-1F287E9764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ahoma"/>
              </a:rPr>
              <a:t>Fingerprinting</a:t>
            </a:r>
            <a:endParaRPr b="0" lang="en-US" sz="6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385" name="" descr="GDR Fingerprinting"/>
          <p:cNvPicPr/>
          <p:nvPr/>
        </p:nvPicPr>
        <p:blipFill>
          <a:blip r:embed="rId1"/>
          <a:stretch/>
        </p:blipFill>
        <p:spPr>
          <a:xfrm>
            <a:off x="2895480" y="2590920"/>
            <a:ext cx="2971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51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natomy of a Loop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524400" y="4464000"/>
            <a:ext cx="190440" cy="571680"/>
          </a:xfrm>
          <a:custGeom>
            <a:avLst/>
            <a:gdLst/>
            <a:ahLst/>
            <a:rect l="l" t="t" r="r" b="b"/>
            <a:pathLst>
              <a:path w="120" h="360">
                <a:moveTo>
                  <a:pt x="0" y="360"/>
                </a:moveTo>
                <a:cubicBezTo>
                  <a:pt x="0" y="360"/>
                  <a:pt x="36" y="348"/>
                  <a:pt x="36" y="348"/>
                </a:cubicBezTo>
                <a:cubicBezTo>
                  <a:pt x="44" y="345"/>
                  <a:pt x="60" y="340"/>
                  <a:pt x="60" y="340"/>
                </a:cubicBezTo>
                <a:cubicBezTo>
                  <a:pt x="71" y="324"/>
                  <a:pt x="90" y="310"/>
                  <a:pt x="96" y="292"/>
                </a:cubicBezTo>
                <a:cubicBezTo>
                  <a:pt x="99" y="284"/>
                  <a:pt x="104" y="268"/>
                  <a:pt x="104" y="268"/>
                </a:cubicBezTo>
                <a:lnTo>
                  <a:pt x="120" y="0"/>
                </a:lnTo>
              </a:path>
            </a:pathLst>
          </a:cu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25960" y="5373720"/>
            <a:ext cx="1106280" cy="291960"/>
          </a:xfrm>
          <a:custGeom>
            <a:avLst/>
            <a:gdLst/>
            <a:ahLst/>
            <a:rect l="l" t="t" r="r" b="b"/>
            <a:pathLst>
              <a:path w="696" h="185">
                <a:moveTo>
                  <a:pt x="0" y="25"/>
                </a:moveTo>
                <a:cubicBezTo>
                  <a:pt x="47" y="9"/>
                  <a:pt x="96" y="11"/>
                  <a:pt x="144" y="1"/>
                </a:cubicBezTo>
                <a:cubicBezTo>
                  <a:pt x="200" y="3"/>
                  <a:pt x="217" y="0"/>
                  <a:pt x="260" y="9"/>
                </a:cubicBezTo>
                <a:cubicBezTo>
                  <a:pt x="338" y="25"/>
                  <a:pt x="414" y="50"/>
                  <a:pt x="492" y="61"/>
                </a:cubicBezTo>
                <a:cubicBezTo>
                  <a:pt x="527" y="73"/>
                  <a:pt x="553" y="97"/>
                  <a:pt x="588" y="109"/>
                </a:cubicBezTo>
                <a:cubicBezTo>
                  <a:pt x="601" y="122"/>
                  <a:pt x="643" y="151"/>
                  <a:pt x="660" y="157"/>
                </a:cubicBezTo>
                <a:cubicBezTo>
                  <a:pt x="666" y="163"/>
                  <a:pt x="696" y="184"/>
                  <a:pt x="696" y="185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84720" y="5168880"/>
            <a:ext cx="482400" cy="120600"/>
          </a:xfrm>
          <a:custGeom>
            <a:avLst/>
            <a:gdLst/>
            <a:ahLst/>
            <a:rect l="l" t="t" r="r" b="b"/>
            <a:pathLst>
              <a:path w="304" h="76">
                <a:moveTo>
                  <a:pt x="0" y="64"/>
                </a:moveTo>
                <a:cubicBezTo>
                  <a:pt x="15" y="59"/>
                  <a:pt x="28" y="52"/>
                  <a:pt x="44" y="48"/>
                </a:cubicBezTo>
                <a:cubicBezTo>
                  <a:pt x="74" y="28"/>
                  <a:pt x="98" y="11"/>
                  <a:pt x="132" y="0"/>
                </a:cubicBezTo>
                <a:cubicBezTo>
                  <a:pt x="159" y="4"/>
                  <a:pt x="195" y="6"/>
                  <a:pt x="220" y="20"/>
                </a:cubicBezTo>
                <a:cubicBezTo>
                  <a:pt x="250" y="37"/>
                  <a:pt x="273" y="60"/>
                  <a:pt x="304" y="76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680800">
            <a:off x="5330880" y="2958840"/>
            <a:ext cx="382680" cy="1066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Loo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8006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Radial L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p opens towards thum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Ulnar Lo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p opens towards pink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738600" cy="42670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54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0%-3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type lines and a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wo (2) delta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in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er Pocket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Loop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iden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41940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Plain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19360" y="1295280"/>
            <a:ext cx="44226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Center Pocket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9868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5370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lain vs. Center Pocket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have at least one ridge that makes a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complete circ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00400" cy="28684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62440" cy="3124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5720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Draw a line through the deltas.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533412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enter Pocket line does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touch circuit ridg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3048120"/>
            <a:ext cx="761760" cy="990360"/>
          </a:xfrm>
          <a:prstGeom prst="ellipse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75040"/>
            <a:ext cx="171720" cy="68400"/>
          </a:xfrm>
          <a:custGeom>
            <a:avLst/>
            <a:gdLst/>
            <a:ahLst/>
            <a:rect l="l" t="t" r="r" b="b"/>
            <a:pathLst>
              <a:path w="108" h="43">
                <a:moveTo>
                  <a:pt x="108" y="43"/>
                </a:moveTo>
                <a:cubicBezTo>
                  <a:pt x="81" y="38"/>
                  <a:pt x="90" y="28"/>
                  <a:pt x="72" y="16"/>
                </a:cubicBezTo>
                <a:cubicBezTo>
                  <a:pt x="67" y="0"/>
                  <a:pt x="37" y="12"/>
                  <a:pt x="21" y="13"/>
                </a:cubicBezTo>
                <a:cubicBezTo>
                  <a:pt x="6" y="18"/>
                  <a:pt x="13" y="13"/>
                  <a:pt x="6" y="34"/>
                </a:cubicBezTo>
                <a:cubicBezTo>
                  <a:pt x="5" y="37"/>
                  <a:pt x="0" y="43"/>
                  <a:pt x="0" y="43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24200" y="4033800"/>
            <a:ext cx="13320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66"/>
                </a:moveTo>
                <a:cubicBezTo>
                  <a:pt x="23" y="51"/>
                  <a:pt x="22" y="15"/>
                  <a:pt x="45" y="0"/>
                </a:cubicBezTo>
                <a:cubicBezTo>
                  <a:pt x="56" y="11"/>
                  <a:pt x="65" y="51"/>
                  <a:pt x="84" y="51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15080" y="3652920"/>
            <a:ext cx="176040" cy="95040"/>
          </a:xfrm>
          <a:custGeom>
            <a:avLst/>
            <a:gdLst/>
            <a:ahLst/>
            <a:rect l="l" t="t" r="r" b="b"/>
            <a:pathLst>
              <a:path w="111" h="60">
                <a:moveTo>
                  <a:pt x="0" y="60"/>
                </a:moveTo>
                <a:cubicBezTo>
                  <a:pt x="11" y="57"/>
                  <a:pt x="13" y="58"/>
                  <a:pt x="21" y="51"/>
                </a:cubicBezTo>
                <a:cubicBezTo>
                  <a:pt x="27" y="45"/>
                  <a:pt x="39" y="33"/>
                  <a:pt x="39" y="33"/>
                </a:cubicBezTo>
                <a:cubicBezTo>
                  <a:pt x="47" y="10"/>
                  <a:pt x="35" y="37"/>
                  <a:pt x="51" y="18"/>
                </a:cubicBezTo>
                <a:cubicBezTo>
                  <a:pt x="55" y="13"/>
                  <a:pt x="56" y="6"/>
                  <a:pt x="60" y="0"/>
                </a:cubicBezTo>
                <a:cubicBezTo>
                  <a:pt x="73" y="4"/>
                  <a:pt x="73" y="14"/>
                  <a:pt x="84" y="21"/>
                </a:cubicBezTo>
                <a:cubicBezTo>
                  <a:pt x="93" y="35"/>
                  <a:pt x="100" y="43"/>
                  <a:pt x="111" y="54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81720" y="3103560"/>
            <a:ext cx="209520" cy="120600"/>
          </a:xfrm>
          <a:custGeom>
            <a:avLst/>
            <a:gdLst/>
            <a:ahLst/>
            <a:rect l="l" t="t" r="r" b="b"/>
            <a:pathLst>
              <a:path w="132" h="76">
                <a:moveTo>
                  <a:pt x="132" y="76"/>
                </a:moveTo>
                <a:cubicBezTo>
                  <a:pt x="127" y="61"/>
                  <a:pt x="117" y="52"/>
                  <a:pt x="108" y="40"/>
                </a:cubicBezTo>
                <a:cubicBezTo>
                  <a:pt x="104" y="34"/>
                  <a:pt x="100" y="28"/>
                  <a:pt x="96" y="22"/>
                </a:cubicBezTo>
                <a:cubicBezTo>
                  <a:pt x="94" y="19"/>
                  <a:pt x="95" y="15"/>
                  <a:pt x="93" y="13"/>
                </a:cubicBezTo>
                <a:cubicBezTo>
                  <a:pt x="90" y="10"/>
                  <a:pt x="85" y="11"/>
                  <a:pt x="81" y="10"/>
                </a:cubicBezTo>
                <a:cubicBezTo>
                  <a:pt x="66" y="0"/>
                  <a:pt x="59" y="1"/>
                  <a:pt x="42" y="7"/>
                </a:cubicBezTo>
                <a:cubicBezTo>
                  <a:pt x="36" y="16"/>
                  <a:pt x="18" y="28"/>
                  <a:pt x="18" y="28"/>
                </a:cubicBezTo>
                <a:cubicBezTo>
                  <a:pt x="11" y="38"/>
                  <a:pt x="7" y="36"/>
                  <a:pt x="0" y="43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579132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in – hits the circuit rid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ouble Loop Whorl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Acci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606840" cy="4343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71880" cy="4267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936720" y="2895480"/>
            <a:ext cx="2487600" cy="2827440"/>
          </a:xfrm>
          <a:custGeom>
            <a:avLst/>
            <a:gdLst/>
            <a:ahLst/>
            <a:rect l="l" t="t" r="r" b="b"/>
            <a:pathLst>
              <a:path w="1567" h="1781">
                <a:moveTo>
                  <a:pt x="581" y="0"/>
                </a:moveTo>
                <a:cubicBezTo>
                  <a:pt x="543" y="38"/>
                  <a:pt x="510" y="85"/>
                  <a:pt x="480" y="130"/>
                </a:cubicBezTo>
                <a:cubicBezTo>
                  <a:pt x="475" y="146"/>
                  <a:pt x="456" y="173"/>
                  <a:pt x="456" y="173"/>
                </a:cubicBezTo>
                <a:cubicBezTo>
                  <a:pt x="449" y="198"/>
                  <a:pt x="432" y="223"/>
                  <a:pt x="418" y="245"/>
                </a:cubicBezTo>
                <a:cubicBezTo>
                  <a:pt x="406" y="264"/>
                  <a:pt x="403" y="288"/>
                  <a:pt x="389" y="307"/>
                </a:cubicBezTo>
                <a:cubicBezTo>
                  <a:pt x="375" y="348"/>
                  <a:pt x="361" y="392"/>
                  <a:pt x="336" y="427"/>
                </a:cubicBezTo>
                <a:cubicBezTo>
                  <a:pt x="331" y="451"/>
                  <a:pt x="316" y="466"/>
                  <a:pt x="312" y="490"/>
                </a:cubicBezTo>
                <a:cubicBezTo>
                  <a:pt x="305" y="535"/>
                  <a:pt x="296" y="600"/>
                  <a:pt x="269" y="638"/>
                </a:cubicBezTo>
                <a:cubicBezTo>
                  <a:pt x="261" y="663"/>
                  <a:pt x="256" y="688"/>
                  <a:pt x="240" y="710"/>
                </a:cubicBezTo>
                <a:cubicBezTo>
                  <a:pt x="233" y="762"/>
                  <a:pt x="237" y="837"/>
                  <a:pt x="221" y="883"/>
                </a:cubicBezTo>
                <a:cubicBezTo>
                  <a:pt x="214" y="935"/>
                  <a:pt x="219" y="1008"/>
                  <a:pt x="245" y="1056"/>
                </a:cubicBezTo>
                <a:cubicBezTo>
                  <a:pt x="255" y="1076"/>
                  <a:pt x="269" y="1097"/>
                  <a:pt x="288" y="1109"/>
                </a:cubicBezTo>
                <a:cubicBezTo>
                  <a:pt x="301" y="1118"/>
                  <a:pt x="332" y="1128"/>
                  <a:pt x="332" y="1128"/>
                </a:cubicBezTo>
                <a:cubicBezTo>
                  <a:pt x="406" y="1123"/>
                  <a:pt x="387" y="1125"/>
                  <a:pt x="432" y="1109"/>
                </a:cubicBezTo>
                <a:cubicBezTo>
                  <a:pt x="456" y="1085"/>
                  <a:pt x="478" y="1065"/>
                  <a:pt x="500" y="1037"/>
                </a:cubicBezTo>
                <a:cubicBezTo>
                  <a:pt x="506" y="1013"/>
                  <a:pt x="523" y="990"/>
                  <a:pt x="538" y="970"/>
                </a:cubicBezTo>
                <a:cubicBezTo>
                  <a:pt x="543" y="954"/>
                  <a:pt x="546" y="937"/>
                  <a:pt x="552" y="922"/>
                </a:cubicBezTo>
                <a:cubicBezTo>
                  <a:pt x="559" y="906"/>
                  <a:pt x="570" y="891"/>
                  <a:pt x="576" y="874"/>
                </a:cubicBezTo>
                <a:cubicBezTo>
                  <a:pt x="583" y="855"/>
                  <a:pt x="584" y="843"/>
                  <a:pt x="596" y="826"/>
                </a:cubicBezTo>
                <a:cubicBezTo>
                  <a:pt x="604" y="796"/>
                  <a:pt x="617" y="776"/>
                  <a:pt x="629" y="749"/>
                </a:cubicBezTo>
                <a:cubicBezTo>
                  <a:pt x="651" y="700"/>
                  <a:pt x="672" y="653"/>
                  <a:pt x="696" y="605"/>
                </a:cubicBezTo>
                <a:cubicBezTo>
                  <a:pt x="713" y="571"/>
                  <a:pt x="731" y="535"/>
                  <a:pt x="759" y="509"/>
                </a:cubicBezTo>
                <a:cubicBezTo>
                  <a:pt x="768" y="489"/>
                  <a:pt x="781" y="474"/>
                  <a:pt x="792" y="456"/>
                </a:cubicBezTo>
                <a:cubicBezTo>
                  <a:pt x="798" y="446"/>
                  <a:pt x="812" y="427"/>
                  <a:pt x="812" y="427"/>
                </a:cubicBezTo>
                <a:cubicBezTo>
                  <a:pt x="838" y="336"/>
                  <a:pt x="915" y="274"/>
                  <a:pt x="1004" y="250"/>
                </a:cubicBezTo>
                <a:cubicBezTo>
                  <a:pt x="1057" y="251"/>
                  <a:pt x="1109" y="250"/>
                  <a:pt x="1162" y="254"/>
                </a:cubicBezTo>
                <a:cubicBezTo>
                  <a:pt x="1172" y="255"/>
                  <a:pt x="1191" y="264"/>
                  <a:pt x="1191" y="264"/>
                </a:cubicBezTo>
                <a:cubicBezTo>
                  <a:pt x="1208" y="276"/>
                  <a:pt x="1229" y="286"/>
                  <a:pt x="1248" y="293"/>
                </a:cubicBezTo>
                <a:cubicBezTo>
                  <a:pt x="1277" y="320"/>
                  <a:pt x="1319" y="341"/>
                  <a:pt x="1354" y="360"/>
                </a:cubicBezTo>
                <a:cubicBezTo>
                  <a:pt x="1365" y="366"/>
                  <a:pt x="1377" y="372"/>
                  <a:pt x="1388" y="379"/>
                </a:cubicBezTo>
                <a:cubicBezTo>
                  <a:pt x="1398" y="385"/>
                  <a:pt x="1416" y="398"/>
                  <a:pt x="1416" y="398"/>
                </a:cubicBezTo>
                <a:cubicBezTo>
                  <a:pt x="1444" y="440"/>
                  <a:pt x="1407" y="389"/>
                  <a:pt x="1440" y="422"/>
                </a:cubicBezTo>
                <a:cubicBezTo>
                  <a:pt x="1458" y="440"/>
                  <a:pt x="1479" y="483"/>
                  <a:pt x="1493" y="504"/>
                </a:cubicBezTo>
                <a:cubicBezTo>
                  <a:pt x="1510" y="530"/>
                  <a:pt x="1512" y="562"/>
                  <a:pt x="1527" y="590"/>
                </a:cubicBezTo>
                <a:cubicBezTo>
                  <a:pt x="1531" y="616"/>
                  <a:pt x="1534" y="642"/>
                  <a:pt x="1541" y="667"/>
                </a:cubicBezTo>
                <a:cubicBezTo>
                  <a:pt x="1548" y="723"/>
                  <a:pt x="1559" y="778"/>
                  <a:pt x="1565" y="835"/>
                </a:cubicBezTo>
                <a:cubicBezTo>
                  <a:pt x="1562" y="915"/>
                  <a:pt x="1567" y="983"/>
                  <a:pt x="1541" y="1056"/>
                </a:cubicBezTo>
                <a:cubicBezTo>
                  <a:pt x="1530" y="1137"/>
                  <a:pt x="1493" y="1254"/>
                  <a:pt x="1464" y="1334"/>
                </a:cubicBezTo>
                <a:cubicBezTo>
                  <a:pt x="1452" y="1366"/>
                  <a:pt x="1446" y="1407"/>
                  <a:pt x="1426" y="1435"/>
                </a:cubicBezTo>
                <a:cubicBezTo>
                  <a:pt x="1398" y="1520"/>
                  <a:pt x="1344" y="1568"/>
                  <a:pt x="1272" y="1618"/>
                </a:cubicBezTo>
                <a:cubicBezTo>
                  <a:pt x="1242" y="1638"/>
                  <a:pt x="1210" y="1673"/>
                  <a:pt x="1176" y="1685"/>
                </a:cubicBezTo>
                <a:cubicBezTo>
                  <a:pt x="1117" y="1706"/>
                  <a:pt x="1057" y="1732"/>
                  <a:pt x="994" y="1742"/>
                </a:cubicBezTo>
                <a:cubicBezTo>
                  <a:pt x="885" y="1781"/>
                  <a:pt x="741" y="1768"/>
                  <a:pt x="634" y="1771"/>
                </a:cubicBezTo>
                <a:cubicBezTo>
                  <a:pt x="426" y="1768"/>
                  <a:pt x="209" y="1752"/>
                  <a:pt x="0" y="1752"/>
                </a:cubicBezTo>
              </a:path>
            </a:pathLst>
          </a:custGeom>
          <a:noFill/>
          <a:ln w="63360">
            <a:solidFill>
              <a:srgbClr val="6f64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RCH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Simpl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ll fingerprint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dges enter on one side of print and exit on the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ght or dramatic rise in the cen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in Arch vs. Tented 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ype lines or del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Arch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Plain 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Tented 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41511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35640" cy="4267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619600" y="4248000"/>
            <a:ext cx="2413080" cy="1270080"/>
          </a:xfrm>
          <a:custGeom>
            <a:avLst/>
            <a:gdLst/>
            <a:ahLst/>
            <a:rect l="l" t="t" r="r" b="b"/>
            <a:pathLst>
              <a:path w="1520" h="800">
                <a:moveTo>
                  <a:pt x="0" y="800"/>
                </a:moveTo>
                <a:cubicBezTo>
                  <a:pt x="12" y="788"/>
                  <a:pt x="24" y="776"/>
                  <a:pt x="36" y="764"/>
                </a:cubicBezTo>
                <a:cubicBezTo>
                  <a:pt x="39" y="761"/>
                  <a:pt x="44" y="762"/>
                  <a:pt x="48" y="760"/>
                </a:cubicBezTo>
                <a:cubicBezTo>
                  <a:pt x="71" y="747"/>
                  <a:pt x="98" y="731"/>
                  <a:pt x="120" y="716"/>
                </a:cubicBezTo>
                <a:cubicBezTo>
                  <a:pt x="138" y="704"/>
                  <a:pt x="149" y="687"/>
                  <a:pt x="164" y="672"/>
                </a:cubicBezTo>
                <a:cubicBezTo>
                  <a:pt x="177" y="659"/>
                  <a:pt x="197" y="646"/>
                  <a:pt x="212" y="636"/>
                </a:cubicBezTo>
                <a:cubicBezTo>
                  <a:pt x="239" y="618"/>
                  <a:pt x="266" y="586"/>
                  <a:pt x="284" y="560"/>
                </a:cubicBezTo>
                <a:cubicBezTo>
                  <a:pt x="293" y="547"/>
                  <a:pt x="320" y="528"/>
                  <a:pt x="320" y="528"/>
                </a:cubicBezTo>
                <a:cubicBezTo>
                  <a:pt x="337" y="493"/>
                  <a:pt x="392" y="451"/>
                  <a:pt x="424" y="424"/>
                </a:cubicBezTo>
                <a:cubicBezTo>
                  <a:pt x="440" y="410"/>
                  <a:pt x="446" y="392"/>
                  <a:pt x="464" y="380"/>
                </a:cubicBezTo>
                <a:cubicBezTo>
                  <a:pt x="477" y="360"/>
                  <a:pt x="491" y="337"/>
                  <a:pt x="508" y="320"/>
                </a:cubicBezTo>
                <a:cubicBezTo>
                  <a:pt x="516" y="295"/>
                  <a:pt x="524" y="269"/>
                  <a:pt x="532" y="244"/>
                </a:cubicBezTo>
                <a:cubicBezTo>
                  <a:pt x="534" y="238"/>
                  <a:pt x="540" y="233"/>
                  <a:pt x="544" y="228"/>
                </a:cubicBezTo>
                <a:cubicBezTo>
                  <a:pt x="567" y="195"/>
                  <a:pt x="594" y="168"/>
                  <a:pt x="612" y="132"/>
                </a:cubicBezTo>
                <a:cubicBezTo>
                  <a:pt x="632" y="93"/>
                  <a:pt x="630" y="42"/>
                  <a:pt x="644" y="0"/>
                </a:cubicBezTo>
                <a:cubicBezTo>
                  <a:pt x="652" y="38"/>
                  <a:pt x="673" y="71"/>
                  <a:pt x="692" y="104"/>
                </a:cubicBezTo>
                <a:cubicBezTo>
                  <a:pt x="704" y="125"/>
                  <a:pt x="716" y="155"/>
                  <a:pt x="736" y="168"/>
                </a:cubicBezTo>
                <a:cubicBezTo>
                  <a:pt x="742" y="185"/>
                  <a:pt x="751" y="189"/>
                  <a:pt x="764" y="200"/>
                </a:cubicBezTo>
                <a:cubicBezTo>
                  <a:pt x="802" y="233"/>
                  <a:pt x="843" y="263"/>
                  <a:pt x="880" y="296"/>
                </a:cubicBezTo>
                <a:cubicBezTo>
                  <a:pt x="909" y="322"/>
                  <a:pt x="960" y="380"/>
                  <a:pt x="996" y="392"/>
                </a:cubicBezTo>
                <a:cubicBezTo>
                  <a:pt x="1043" y="408"/>
                  <a:pt x="1084" y="434"/>
                  <a:pt x="1128" y="456"/>
                </a:cubicBezTo>
                <a:cubicBezTo>
                  <a:pt x="1153" y="469"/>
                  <a:pt x="1172" y="499"/>
                  <a:pt x="1200" y="508"/>
                </a:cubicBezTo>
                <a:cubicBezTo>
                  <a:pt x="1214" y="513"/>
                  <a:pt x="1227" y="524"/>
                  <a:pt x="1240" y="528"/>
                </a:cubicBezTo>
                <a:cubicBezTo>
                  <a:pt x="1271" y="538"/>
                  <a:pt x="1304" y="544"/>
                  <a:pt x="1336" y="552"/>
                </a:cubicBezTo>
                <a:cubicBezTo>
                  <a:pt x="1348" y="555"/>
                  <a:pt x="1357" y="564"/>
                  <a:pt x="1368" y="568"/>
                </a:cubicBezTo>
                <a:cubicBezTo>
                  <a:pt x="1416" y="584"/>
                  <a:pt x="1468" y="604"/>
                  <a:pt x="1520" y="604"/>
                </a:cubicBezTo>
              </a:path>
            </a:pathLst>
          </a:custGeom>
          <a:noFill/>
          <a:ln w="63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gerprint Analysi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atch a suspect to a crime sce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ed upon general shape or patte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a point by point match of minuti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erage fingerprint has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50 minuti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8 to 16 mat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equate in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tatistical studies regarding locations of common minutiae in popul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inutiae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i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aised points on a pr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Gro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urrow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low points on a pr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nutiae (Ridge characteristi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dge En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fur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land or D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losure (or Lak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hy do we have fingerprints?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riction Ridge Sk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firm grasp &amp; resists slipp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 the palm side of fingers &amp; hands, soles of feet and t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on occurs dur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t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s d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nge over a life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cal twins hav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ngerprint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s grow back when dam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43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733920" y="4495680"/>
            <a:ext cx="3045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62520"/>
            <a:ext cx="3049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4182200">
            <a:off x="5488920" y="2511000"/>
            <a:ext cx="4510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4120" y="45720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7403400">
            <a:off x="3657600" y="1828800"/>
            <a:ext cx="457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188600">
            <a:off x="5714640" y="4723920"/>
            <a:ext cx="3049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698400">
            <a:off x="4495320" y="3657600"/>
            <a:ext cx="3049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33526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86400" y="29718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235400" cy="4343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713400" cy="44193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inutiae Mapp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233960" cy="4343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00680" cy="4572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mparing Minutiae Ma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tent Fingerprint Remov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s up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Type of surf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ous vs. Nonpo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 vs. H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How the print was lef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ble vs. Invisible (latent pri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mount of print avail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tent Print Remov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glue Fu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no Acid Re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dine Fu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ust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, non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black pow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st on powder with bru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excess powder (puff of a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t” print with t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on index c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581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uperglue Fum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, non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acry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print evidence in sealed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few drops of superglue + h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s 2-3 hours; chemical fumes stick to pr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977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mino Acid Reaction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hydr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ay or dab chemical onto print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to dry (2-3 hour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s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en it reacts with prote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ly effective on old prints (up to 15 year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29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2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ree (3) Types of Fingerprin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visible fingerpr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when sweat, oil, amino acids, &amp; water are deposited in the formation of the ridge patt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essed into soft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m, wax, soap, dust, putty, etc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isible or Pa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 left in a visible mater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k, grease, blood, paint, etc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897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odine Fuming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dine crystals (sol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print evidence in sealed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ubli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iodine cryst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id to GA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pors attach to pr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ermanent! Must photograp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415200" y="609480"/>
            <a:ext cx="2388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gerprint Composi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ccrine sweat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 “watery” swe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Apocrine sweat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n “oily” sw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kin Anatom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piderm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 Layer of Skin (2 mm in fing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keratin, melanin, &amp; immune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rm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 layer of connective t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blood vessels, nerves, muscles, oil &amp; sweat glands, &amp; hair foll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apill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undary between layers; forms ridge patt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Illustration: Normal Skin"/>
          <p:cNvPicPr/>
          <p:nvPr/>
        </p:nvPicPr>
        <p:blipFill>
          <a:blip r:embed="rId1"/>
          <a:stretch/>
        </p:blipFill>
        <p:spPr>
          <a:xfrm>
            <a:off x="1371600" y="0"/>
            <a:ext cx="591984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3520" y="2133720"/>
            <a:ext cx="19810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pil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59680" cy="655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09680" y="457200"/>
            <a:ext cx="2362320" cy="6094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979560"/>
            <a:ext cx="2359080" cy="1420920"/>
          </a:xfrm>
          <a:custGeom>
            <a:avLst/>
            <a:gdLst/>
            <a:ahLst/>
            <a:rect l="l" t="t" r="r" b="b"/>
            <a:pathLst>
              <a:path w="1486" h="895">
                <a:moveTo>
                  <a:pt x="771" y="11"/>
                </a:moveTo>
                <a:cubicBezTo>
                  <a:pt x="574" y="64"/>
                  <a:pt x="823" y="0"/>
                  <a:pt x="269" y="32"/>
                </a:cubicBezTo>
                <a:cubicBezTo>
                  <a:pt x="201" y="36"/>
                  <a:pt x="124" y="75"/>
                  <a:pt x="59" y="95"/>
                </a:cubicBezTo>
                <a:cubicBezTo>
                  <a:pt x="0" y="185"/>
                  <a:pt x="37" y="246"/>
                  <a:pt x="91" y="326"/>
                </a:cubicBezTo>
                <a:cubicBezTo>
                  <a:pt x="149" y="412"/>
                  <a:pt x="221" y="470"/>
                  <a:pt x="300" y="535"/>
                </a:cubicBezTo>
                <a:cubicBezTo>
                  <a:pt x="385" y="605"/>
                  <a:pt x="255" y="522"/>
                  <a:pt x="415" y="629"/>
                </a:cubicBezTo>
                <a:cubicBezTo>
                  <a:pt x="443" y="648"/>
                  <a:pt x="504" y="701"/>
                  <a:pt x="541" y="713"/>
                </a:cubicBezTo>
                <a:cubicBezTo>
                  <a:pt x="562" y="720"/>
                  <a:pt x="604" y="734"/>
                  <a:pt x="604" y="734"/>
                </a:cubicBezTo>
                <a:cubicBezTo>
                  <a:pt x="677" y="783"/>
                  <a:pt x="646" y="762"/>
                  <a:pt x="698" y="797"/>
                </a:cubicBezTo>
                <a:cubicBezTo>
                  <a:pt x="716" y="809"/>
                  <a:pt x="741" y="808"/>
                  <a:pt x="761" y="818"/>
                </a:cubicBezTo>
                <a:cubicBezTo>
                  <a:pt x="829" y="853"/>
                  <a:pt x="751" y="829"/>
                  <a:pt x="834" y="849"/>
                </a:cubicBezTo>
                <a:cubicBezTo>
                  <a:pt x="980" y="846"/>
                  <a:pt x="1276" y="895"/>
                  <a:pt x="1442" y="786"/>
                </a:cubicBezTo>
                <a:cubicBezTo>
                  <a:pt x="1486" y="656"/>
                  <a:pt x="1470" y="728"/>
                  <a:pt x="1452" y="493"/>
                </a:cubicBezTo>
                <a:cubicBezTo>
                  <a:pt x="1450" y="461"/>
                  <a:pt x="1444" y="428"/>
                  <a:pt x="1431" y="399"/>
                </a:cubicBezTo>
                <a:cubicBezTo>
                  <a:pt x="1407" y="347"/>
                  <a:pt x="1367" y="313"/>
                  <a:pt x="1327" y="273"/>
                </a:cubicBezTo>
                <a:cubicBezTo>
                  <a:pt x="1299" y="245"/>
                  <a:pt x="1270" y="206"/>
                  <a:pt x="1232" y="189"/>
                </a:cubicBezTo>
                <a:cubicBezTo>
                  <a:pt x="1152" y="154"/>
                  <a:pt x="1065" y="137"/>
                  <a:pt x="981" y="116"/>
                </a:cubicBezTo>
                <a:cubicBezTo>
                  <a:pt x="957" y="110"/>
                  <a:pt x="880" y="91"/>
                  <a:pt x="855" y="74"/>
                </a:cubicBezTo>
                <a:cubicBezTo>
                  <a:pt x="829" y="56"/>
                  <a:pt x="794" y="35"/>
                  <a:pt x="761" y="32"/>
                </a:cubicBezTo>
                <a:cubicBezTo>
                  <a:pt x="737" y="29"/>
                  <a:pt x="712" y="32"/>
                  <a:pt x="688" y="32"/>
                </a:cubicBezTo>
                <a:lnTo>
                  <a:pt x="771" y="11"/>
                </a:lnTo>
                <a:close/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ajor Ridge Pattern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op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orl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30081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2971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60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(2) or more ridges entering from one side, curving and exiting on the same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C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er of l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Type Lin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dges that dive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elt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osest ridges to type lin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s a triang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3276720" cy="3070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24480" y="3200400"/>
            <a:ext cx="114300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109000" y="5347080"/>
            <a:ext cx="1002960" cy="583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24680" y="5791320"/>
            <a:ext cx="304920" cy="304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1:55:13Z</dcterms:created>
  <dc:creator>fdse</dc:creator>
  <dc:description/>
  <dc:language>en-US</dc:language>
  <cp:lastModifiedBy>Dawn Pav</cp:lastModifiedBy>
  <dcterms:modified xsi:type="dcterms:W3CDTF">2010-10-14T02:29:41Z</dcterms:modified>
  <cp:revision>46</cp:revision>
  <dc:subject/>
  <dc:title>Fingerprinting</dc:title>
</cp:coreProperties>
</file>